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64E-D556-46A3-9909-3D8B0CDB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975-FE12-43F2-BF1B-6D83BBA9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643-BEE7-482B-8021-BC01F185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FBA-1678-4E50-BB08-EA806F07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5CC3-3E19-42BD-9581-2E0485B9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CB30-BDE2-4A75-BD00-BA62A5C8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165D-07DF-4DAD-95EB-70F8C874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F3AA-EC59-4BA4-9766-D5547941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D282-372C-4095-A9F0-ED3D1CE9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DDFA-4017-4275-91AB-65715F89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11A9-75F5-4F30-BF46-49CE6A91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829-7AB0-4724-9787-390DF8C5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48D1-72F1-4CF9-95B7-79C24D78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8434-1342-4067-A01C-08DABCF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6FBD-B44F-40EE-938A-93F68CA5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9E02-D582-4B8D-9DAE-E15FE90A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6048-842B-4E70-B192-5FBF115E0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FC7D0-9284-4A32-A4F8-AD72F900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96D2C-FE75-4137-B98C-51191AA7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9460D-C4D8-4DC1-80F8-3C7E2CBC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CBAE-A9A1-42BC-933E-FF2DE89E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D5224-8461-4436-A098-C3017B25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04F-1D6F-46C0-85EB-8CBA8A20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20427-E9BB-414B-9B15-0BCCA9E3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B3E4-16F9-412C-AE7C-47CBCFCC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2F2C-025A-4C7D-B399-8A259CE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9E0B0-504A-4FE1-BCD7-9AC09FD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3080B-3C96-4C9D-B378-79B544C6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F1AB7-9D2D-45E7-8243-6A9299CD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17F7-4ACE-4B62-8BFC-717A5EEB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E4E7F-7122-48B9-864D-D9C65C95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F7696-9476-4D9B-B67F-869F107E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08F4A-7021-4524-855F-AAAF591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91D-77F1-49A6-824D-2D9735CC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8EBC7-B5B1-4C29-8E08-7CCF6554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7742-82DB-4D33-AA44-F289D97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71AE-8F95-4B5E-A4CE-06FB4FEF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77A30-A59D-4449-9466-30BBA4F1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A281F-8747-474E-9EBB-8004156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D463-BAEF-49B6-AF4A-BC282171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8B04-1158-4F55-AD52-54007C51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B9E7-F71D-49CE-8032-DB454D1F2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57530-D51F-4EE0-9E69-A214D212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61E30-DDD2-42A0-9395-7CACF4D7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B70E-6C69-4249-8D83-CAE4B5F0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F9893-DA8E-472A-B1CE-6D7AA6B7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33230-5670-4799-A803-C3F8748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AE18-0010-4F97-ACF7-1C29B773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344A-37A4-4147-BF6C-6F200AA1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8A37-85D0-42B8-AEB6-A2BABC47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2DAC8-313B-48BC-A3D9-C490618E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6E2E3-B34B-4982-AB51-D0F9121C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299E-9FE5-4781-BE6C-F8EC0D9B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95F6-E7B8-48B4-92FC-E24016A0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6E39-E85C-46A3-A939-4A3964E2E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3E0-D5BE-4D63-8B90-3462AF02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161C1-1BD6-41D9-803E-DDA4D816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9B96E-DAD6-4885-989C-6460FD09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B123A-01A7-4603-8DE8-A0F6C23E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C259A-9151-4795-8E0C-49EADE6C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9199E-D45E-4F5A-94C6-92578113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3D528-F6E9-4835-87ED-39BCCCA7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029D8-F1C4-488E-8EC3-0528A83D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A108-A6A1-410A-BB74-19B8D7A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B4FA-2CD7-4B82-AD73-6B9CAC31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58763-2F68-4B7B-969D-551989E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46EB-FFCF-4588-8B2B-BFD5FFF9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482E3-460E-47F2-B31C-9EC63E65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BB254-087C-4FC5-8599-4673C563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30494-F5D3-46B0-AB75-3573E4CB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703B1-84DC-4056-B72C-8B0B59A2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BC9C4-E89A-4AD8-B55C-4A7AEE0C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B3ECB-556C-4FDD-89E7-BC0EF7F5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39C80-22E4-4805-89D7-9D37A136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6B679-B700-4E41-87A6-CD2B3127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5F1E7-5E32-454A-ADBA-56A55CE2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4BB24-DF87-45E1-99B4-99AE3561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415-C5E2-46FA-BB08-A4901A33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FE91A-CD2C-445B-96F3-1DBEA1A0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5703-2F9E-4299-935A-204944B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9B25E-A816-42AC-AAE8-820B1C4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F43F-B6D7-4B70-8E4A-AF3E92A90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19814-FFE8-456E-A833-C61B593F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FF632-DCCF-4B7C-A6D8-F194DD9F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F3967-C08D-4967-A2C1-2EAEE9E4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223BB-5514-4B3E-B990-FEC357F6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C15B2-866D-4145-B320-52B18324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4D3DB-B078-4134-B0E0-32553367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1F8-2878-4969-A4D7-B6E9550D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A3672-E51C-4963-B388-0AC24DD0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41AFE-1D2A-43B6-A9CA-09EB7621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EC10B-2F71-419C-9117-2F7DBA8D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244CE-8829-4006-B35C-76C8DE2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EEC5-009A-4F7B-BBB9-81D18CC8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B0651-24CB-46AE-8747-7DC10538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F53E6-A3C2-4B86-90D6-2C92F5FB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14C4-3445-4FEA-9D36-335B0A3BB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E350-F328-49F7-9224-F3C9A5C27B9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10A9-7AA1-4BFA-88D8-67FB58C67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0D12-218D-473D-8529-B7CC4B1798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207E-B6A4-4C0F-B78F-4B5C7BB1F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4D22-CC85-4E52-9464-0BC429B9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500E-5E60-4714-9932-D13E5E0D5D59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7003-47D5-4E68-9366-99B37B371418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461440" cy="176688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9" descr=""/>
          <p:cNvPicPr/>
          <p:nvPr/>
        </p:nvPicPr>
        <p:blipFill>
          <a:blip r:embed="rId1"/>
          <a:srcRect l="0" t="21739" r="22952" b="1413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Rectangle 2" descr=""/>
          <p:cNvPicPr/>
          <p:nvPr/>
        </p:nvPicPr>
        <p:blipFill>
          <a:blip r:embed="rId2"/>
          <a:stretch/>
        </p:blipFill>
        <p:spPr>
          <a:xfrm>
            <a:off x="0" y="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6"/>
          <p:cNvSpPr/>
          <p:nvPr/>
        </p:nvSpPr>
        <p:spPr>
          <a:xfrm>
            <a:off x="3962520" y="3733920"/>
            <a:ext cx="8991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tag 5 nacht. $1882 to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</a:t>
            </a: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v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ago </a:t>
            </a:r>
            <a:r>
              <a:rPr b="1" lang="en-US" sz="1800" spc="-1" strike="noStrike">
                <a:solidFill>
                  <a:srgbClr val="17bbfd"/>
                </a:solidFill>
                <a:latin typeface="Arial"/>
              </a:rPr>
              <a:t>ub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, zu Berli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"/>
          <p:cNvPicPr/>
          <p:nvPr/>
        </p:nvPicPr>
        <p:blipFill>
          <a:blip r:embed="rId1"/>
          <a:srcRect l="16524" t="27805" r="34840" b="43627"/>
          <a:stretch/>
        </p:blipFill>
        <p:spPr>
          <a:xfrm>
            <a:off x="63360" y="3048120"/>
            <a:ext cx="8915400" cy="451008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2" descr=""/>
          <p:cNvPicPr/>
          <p:nvPr/>
        </p:nvPicPr>
        <p:blipFill>
          <a:blip r:embed="rId2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ist $ 544 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</a:rPr>
              <a:t>f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  <a:ea typeface="Arial"/>
              </a:rPr>
              <a:t>ür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swei kinder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Wir gehen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  <a:ea typeface="Arial"/>
              </a:rPr>
              <a:t>durch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Mechlenburg, Anhalt, Lower Saxony, North Rhine Westhalta, und Palatinat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7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-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Freeform 12"/>
          <p:cNvSpPr/>
          <p:nvPr/>
        </p:nvSpPr>
        <p:spPr>
          <a:xfrm>
            <a:off x="3976560" y="638280"/>
            <a:ext cx="1873440" cy="1568520"/>
          </a:xfrm>
          <a:custGeom>
            <a:avLst/>
            <a:gdLst/>
            <a:ahLst/>
            <a:rect l="l" t="t" r="r" b="b"/>
            <a:pathLst>
              <a:path w="1872343" h="1567542">
                <a:moveTo>
                  <a:pt x="1872343" y="1567542"/>
                </a:moveTo>
                <a:cubicBezTo>
                  <a:pt x="1848153" y="1538514"/>
                  <a:pt x="1822971" y="1510284"/>
                  <a:pt x="1799772" y="1480457"/>
                </a:cubicBezTo>
                <a:cubicBezTo>
                  <a:pt x="1767919" y="1439503"/>
                  <a:pt x="1763690" y="1409460"/>
                  <a:pt x="1712686" y="1378857"/>
                </a:cubicBezTo>
                <a:cubicBezTo>
                  <a:pt x="1678831" y="1358544"/>
                  <a:pt x="1593821" y="1342513"/>
                  <a:pt x="1553029" y="1335314"/>
                </a:cubicBezTo>
                <a:cubicBezTo>
                  <a:pt x="1495066" y="1325085"/>
                  <a:pt x="1437124" y="1314609"/>
                  <a:pt x="1378857" y="1306285"/>
                </a:cubicBezTo>
                <a:cubicBezTo>
                  <a:pt x="1344990" y="1301447"/>
                  <a:pt x="1310916" y="1297891"/>
                  <a:pt x="1277257" y="1291771"/>
                </a:cubicBezTo>
                <a:cubicBezTo>
                  <a:pt x="1257631" y="1288203"/>
                  <a:pt x="1238973" y="1279893"/>
                  <a:pt x="1219200" y="1277257"/>
                </a:cubicBezTo>
                <a:cubicBezTo>
                  <a:pt x="1166230" y="1270194"/>
                  <a:pt x="1112762" y="1267580"/>
                  <a:pt x="1059543" y="1262742"/>
                </a:cubicBezTo>
                <a:cubicBezTo>
                  <a:pt x="950221" y="1189862"/>
                  <a:pt x="1089164" y="1275438"/>
                  <a:pt x="957943" y="1219200"/>
                </a:cubicBezTo>
                <a:cubicBezTo>
                  <a:pt x="941909" y="1212328"/>
                  <a:pt x="930002" y="1197972"/>
                  <a:pt x="914400" y="1190171"/>
                </a:cubicBezTo>
                <a:cubicBezTo>
                  <a:pt x="900716" y="1183329"/>
                  <a:pt x="885371" y="1180495"/>
                  <a:pt x="870857" y="1175657"/>
                </a:cubicBezTo>
                <a:cubicBezTo>
                  <a:pt x="856343" y="1165981"/>
                  <a:pt x="839650" y="1158963"/>
                  <a:pt x="827315" y="1146628"/>
                </a:cubicBezTo>
                <a:cubicBezTo>
                  <a:pt x="814980" y="1134293"/>
                  <a:pt x="806087" y="1118687"/>
                  <a:pt x="798286" y="1103085"/>
                </a:cubicBezTo>
                <a:cubicBezTo>
                  <a:pt x="775598" y="1057708"/>
                  <a:pt x="792499" y="1046791"/>
                  <a:pt x="754743" y="1001485"/>
                </a:cubicBezTo>
                <a:cubicBezTo>
                  <a:pt x="743576" y="988084"/>
                  <a:pt x="725714" y="982133"/>
                  <a:pt x="711200" y="972457"/>
                </a:cubicBezTo>
                <a:cubicBezTo>
                  <a:pt x="701524" y="957943"/>
                  <a:pt x="694507" y="941249"/>
                  <a:pt x="682172" y="928914"/>
                </a:cubicBezTo>
                <a:cubicBezTo>
                  <a:pt x="669837" y="916579"/>
                  <a:pt x="648633" y="914176"/>
                  <a:pt x="638629" y="899885"/>
                </a:cubicBezTo>
                <a:cubicBezTo>
                  <a:pt x="638440" y="899615"/>
                  <a:pt x="578104" y="766788"/>
                  <a:pt x="551543" y="740228"/>
                </a:cubicBezTo>
                <a:cubicBezTo>
                  <a:pt x="539208" y="727893"/>
                  <a:pt x="522514" y="720876"/>
                  <a:pt x="508000" y="711200"/>
                </a:cubicBezTo>
                <a:cubicBezTo>
                  <a:pt x="473962" y="609084"/>
                  <a:pt x="525105" y="728305"/>
                  <a:pt x="435429" y="638628"/>
                </a:cubicBezTo>
                <a:cubicBezTo>
                  <a:pt x="358021" y="561219"/>
                  <a:pt x="493485" y="619274"/>
                  <a:pt x="377372" y="580571"/>
                </a:cubicBezTo>
                <a:cubicBezTo>
                  <a:pt x="362858" y="570895"/>
                  <a:pt x="344726" y="565164"/>
                  <a:pt x="333829" y="551542"/>
                </a:cubicBezTo>
                <a:cubicBezTo>
                  <a:pt x="324272" y="539595"/>
                  <a:pt x="330133" y="518818"/>
                  <a:pt x="319315" y="508000"/>
                </a:cubicBezTo>
                <a:cubicBezTo>
                  <a:pt x="308497" y="497182"/>
                  <a:pt x="290774" y="496486"/>
                  <a:pt x="275772" y="493485"/>
                </a:cubicBezTo>
                <a:cubicBezTo>
                  <a:pt x="242226" y="486776"/>
                  <a:pt x="208039" y="483809"/>
                  <a:pt x="174172" y="478971"/>
                </a:cubicBezTo>
                <a:cubicBezTo>
                  <a:pt x="193524" y="459619"/>
                  <a:pt x="253254" y="438435"/>
                  <a:pt x="232229" y="420914"/>
                </a:cubicBezTo>
                <a:cubicBezTo>
                  <a:pt x="194876" y="389787"/>
                  <a:pt x="135143" y="413793"/>
                  <a:pt x="87086" y="406400"/>
                </a:cubicBezTo>
                <a:cubicBezTo>
                  <a:pt x="71964" y="404074"/>
                  <a:pt x="58057" y="396723"/>
                  <a:pt x="43543" y="391885"/>
                </a:cubicBezTo>
                <a:cubicBezTo>
                  <a:pt x="10256" y="292023"/>
                  <a:pt x="47341" y="412767"/>
                  <a:pt x="14515" y="232228"/>
                </a:cubicBezTo>
                <a:cubicBezTo>
                  <a:pt x="11778" y="217175"/>
                  <a:pt x="4838" y="203199"/>
                  <a:pt x="0" y="188685"/>
                </a:cubicBezTo>
                <a:cubicBezTo>
                  <a:pt x="4838" y="149980"/>
                  <a:pt x="4252" y="110202"/>
                  <a:pt x="14515" y="72571"/>
                </a:cubicBezTo>
                <a:cubicBezTo>
                  <a:pt x="19105" y="55742"/>
                  <a:pt x="31208" y="41363"/>
                  <a:pt x="43543" y="29028"/>
                </a:cubicBezTo>
                <a:cubicBezTo>
                  <a:pt x="55878" y="16693"/>
                  <a:pt x="87086" y="0"/>
                  <a:pt x="87086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Freeform 14"/>
          <p:cNvSpPr/>
          <p:nvPr/>
        </p:nvSpPr>
        <p:spPr>
          <a:xfrm>
            <a:off x="1955880" y="609480"/>
            <a:ext cx="2173320" cy="4584960"/>
          </a:xfrm>
          <a:custGeom>
            <a:avLst/>
            <a:gdLst/>
            <a:ahLst/>
            <a:rect l="l" t="t" r="r" b="b"/>
            <a:pathLst>
              <a:path w="2172575" h="4584700">
                <a:moveTo>
                  <a:pt x="2082800" y="0"/>
                </a:moveTo>
                <a:lnTo>
                  <a:pt x="1905000" y="12700"/>
                </a:lnTo>
                <a:cubicBezTo>
                  <a:pt x="1860671" y="30835"/>
                  <a:pt x="1837267" y="80433"/>
                  <a:pt x="1803400" y="114300"/>
                </a:cubicBezTo>
                <a:cubicBezTo>
                  <a:pt x="1786467" y="131233"/>
                  <a:pt x="1763310" y="143681"/>
                  <a:pt x="1752600" y="165100"/>
                </a:cubicBezTo>
                <a:cubicBezTo>
                  <a:pt x="1730471" y="209358"/>
                  <a:pt x="1718016" y="230753"/>
                  <a:pt x="1701800" y="279400"/>
                </a:cubicBezTo>
                <a:cubicBezTo>
                  <a:pt x="1696280" y="295959"/>
                  <a:pt x="1693333" y="313267"/>
                  <a:pt x="1689100" y="330200"/>
                </a:cubicBezTo>
                <a:cubicBezTo>
                  <a:pt x="1693333" y="419100"/>
                  <a:pt x="1690037" y="508680"/>
                  <a:pt x="1701800" y="596900"/>
                </a:cubicBezTo>
                <a:cubicBezTo>
                  <a:pt x="1707108" y="636709"/>
                  <a:pt x="1725344" y="673770"/>
                  <a:pt x="1739900" y="711200"/>
                </a:cubicBezTo>
                <a:cubicBezTo>
                  <a:pt x="1783876" y="824282"/>
                  <a:pt x="1773512" y="802583"/>
                  <a:pt x="1828800" y="876300"/>
                </a:cubicBezTo>
                <a:cubicBezTo>
                  <a:pt x="1816100" y="897467"/>
                  <a:pt x="1801739" y="917722"/>
                  <a:pt x="1790700" y="939800"/>
                </a:cubicBezTo>
                <a:cubicBezTo>
                  <a:pt x="1784713" y="951774"/>
                  <a:pt x="1783987" y="965926"/>
                  <a:pt x="1778000" y="977900"/>
                </a:cubicBezTo>
                <a:cubicBezTo>
                  <a:pt x="1728761" y="1076377"/>
                  <a:pt x="1771822" y="958335"/>
                  <a:pt x="1739900" y="1054100"/>
                </a:cubicBezTo>
                <a:cubicBezTo>
                  <a:pt x="1744133" y="1071033"/>
                  <a:pt x="1753689" y="1087480"/>
                  <a:pt x="1752600" y="1104900"/>
                </a:cubicBezTo>
                <a:cubicBezTo>
                  <a:pt x="1749387" y="1156300"/>
                  <a:pt x="1745283" y="1209078"/>
                  <a:pt x="1727200" y="1257300"/>
                </a:cubicBezTo>
                <a:cubicBezTo>
                  <a:pt x="1718792" y="1279723"/>
                  <a:pt x="1694422" y="1292331"/>
                  <a:pt x="1676400" y="1308100"/>
                </a:cubicBezTo>
                <a:cubicBezTo>
                  <a:pt x="1660470" y="1322038"/>
                  <a:pt x="1644532" y="1336734"/>
                  <a:pt x="1625600" y="1346200"/>
                </a:cubicBezTo>
                <a:cubicBezTo>
                  <a:pt x="1563547" y="1377227"/>
                  <a:pt x="1511766" y="1395993"/>
                  <a:pt x="1447800" y="1409700"/>
                </a:cubicBezTo>
                <a:cubicBezTo>
                  <a:pt x="1405587" y="1418746"/>
                  <a:pt x="1362683" y="1424629"/>
                  <a:pt x="1320800" y="1435100"/>
                </a:cubicBezTo>
                <a:lnTo>
                  <a:pt x="1219200" y="1460500"/>
                </a:lnTo>
                <a:cubicBezTo>
                  <a:pt x="1206500" y="1481667"/>
                  <a:pt x="1188359" y="1500407"/>
                  <a:pt x="1181100" y="1524000"/>
                </a:cubicBezTo>
                <a:cubicBezTo>
                  <a:pt x="1154291" y="1611130"/>
                  <a:pt x="1174440" y="1690881"/>
                  <a:pt x="1193800" y="1778000"/>
                </a:cubicBezTo>
                <a:cubicBezTo>
                  <a:pt x="1199608" y="1804136"/>
                  <a:pt x="1214798" y="1827790"/>
                  <a:pt x="1219200" y="1854200"/>
                </a:cubicBezTo>
                <a:cubicBezTo>
                  <a:pt x="1237511" y="1964066"/>
                  <a:pt x="1228706" y="1904848"/>
                  <a:pt x="1244600" y="2032000"/>
                </a:cubicBezTo>
                <a:cubicBezTo>
                  <a:pt x="1240367" y="2184400"/>
                  <a:pt x="1239708" y="2336941"/>
                  <a:pt x="1231900" y="2489200"/>
                </a:cubicBezTo>
                <a:cubicBezTo>
                  <a:pt x="1231214" y="2502569"/>
                  <a:pt x="1224473" y="2514995"/>
                  <a:pt x="1219200" y="2527300"/>
                </a:cubicBezTo>
                <a:cubicBezTo>
                  <a:pt x="1211729" y="2544731"/>
                  <a:pt x="1184343" y="2600257"/>
                  <a:pt x="1168400" y="2616200"/>
                </a:cubicBezTo>
                <a:cubicBezTo>
                  <a:pt x="1141051" y="2643549"/>
                  <a:pt x="1102010" y="2664610"/>
                  <a:pt x="1066800" y="2679700"/>
                </a:cubicBezTo>
                <a:cubicBezTo>
                  <a:pt x="1054495" y="2684973"/>
                  <a:pt x="1040674" y="2686413"/>
                  <a:pt x="1028700" y="2692400"/>
                </a:cubicBezTo>
                <a:cubicBezTo>
                  <a:pt x="930223" y="2741639"/>
                  <a:pt x="1048265" y="2698578"/>
                  <a:pt x="952500" y="2730500"/>
                </a:cubicBezTo>
                <a:cubicBezTo>
                  <a:pt x="948267" y="2743200"/>
                  <a:pt x="945787" y="2756626"/>
                  <a:pt x="939800" y="2768600"/>
                </a:cubicBezTo>
                <a:cubicBezTo>
                  <a:pt x="932974" y="2782252"/>
                  <a:pt x="919759" y="2792408"/>
                  <a:pt x="914400" y="2806700"/>
                </a:cubicBezTo>
                <a:cubicBezTo>
                  <a:pt x="906821" y="2826911"/>
                  <a:pt x="905933" y="2849033"/>
                  <a:pt x="901700" y="2870200"/>
                </a:cubicBezTo>
                <a:cubicBezTo>
                  <a:pt x="893233" y="2988733"/>
                  <a:pt x="885904" y="3107353"/>
                  <a:pt x="876300" y="3225800"/>
                </a:cubicBezTo>
                <a:cubicBezTo>
                  <a:pt x="870298" y="3299826"/>
                  <a:pt x="861210" y="3356831"/>
                  <a:pt x="850900" y="3429000"/>
                </a:cubicBezTo>
                <a:cubicBezTo>
                  <a:pt x="855133" y="3488267"/>
                  <a:pt x="857967" y="3547650"/>
                  <a:pt x="863600" y="3606800"/>
                </a:cubicBezTo>
                <a:cubicBezTo>
                  <a:pt x="866438" y="3636599"/>
                  <a:pt x="877659" y="3665797"/>
                  <a:pt x="876300" y="3695700"/>
                </a:cubicBezTo>
                <a:cubicBezTo>
                  <a:pt x="873391" y="3759696"/>
                  <a:pt x="860891" y="3822922"/>
                  <a:pt x="850900" y="3886200"/>
                </a:cubicBezTo>
                <a:cubicBezTo>
                  <a:pt x="848178" y="3903441"/>
                  <a:pt x="846006" y="3921388"/>
                  <a:pt x="838200" y="3937000"/>
                </a:cubicBezTo>
                <a:cubicBezTo>
                  <a:pt x="828734" y="3955932"/>
                  <a:pt x="812403" y="3970576"/>
                  <a:pt x="800100" y="3987800"/>
                </a:cubicBezTo>
                <a:cubicBezTo>
                  <a:pt x="791228" y="4000220"/>
                  <a:pt x="784471" y="4014174"/>
                  <a:pt x="774700" y="4025900"/>
                </a:cubicBezTo>
                <a:cubicBezTo>
                  <a:pt x="763202" y="4039698"/>
                  <a:pt x="747627" y="4049823"/>
                  <a:pt x="736600" y="4064000"/>
                </a:cubicBezTo>
                <a:cubicBezTo>
                  <a:pt x="717858" y="4088097"/>
                  <a:pt x="702733" y="4114800"/>
                  <a:pt x="685800" y="4140200"/>
                </a:cubicBezTo>
                <a:cubicBezTo>
                  <a:pt x="677333" y="4152900"/>
                  <a:pt x="671193" y="4167507"/>
                  <a:pt x="660400" y="4178300"/>
                </a:cubicBezTo>
                <a:cubicBezTo>
                  <a:pt x="611507" y="4227193"/>
                  <a:pt x="637244" y="4206437"/>
                  <a:pt x="584200" y="4241800"/>
                </a:cubicBezTo>
                <a:cubicBezTo>
                  <a:pt x="592667" y="4254500"/>
                  <a:pt x="599829" y="4268174"/>
                  <a:pt x="609600" y="4279900"/>
                </a:cubicBezTo>
                <a:cubicBezTo>
                  <a:pt x="644480" y="4321756"/>
                  <a:pt x="644665" y="4314018"/>
                  <a:pt x="685800" y="4343400"/>
                </a:cubicBezTo>
                <a:cubicBezTo>
                  <a:pt x="703024" y="4355703"/>
                  <a:pt x="718988" y="4369759"/>
                  <a:pt x="736600" y="4381500"/>
                </a:cubicBezTo>
                <a:cubicBezTo>
                  <a:pt x="820311" y="4437307"/>
                  <a:pt x="918656" y="4496864"/>
                  <a:pt x="1016000" y="4521200"/>
                </a:cubicBezTo>
                <a:lnTo>
                  <a:pt x="1117600" y="4546600"/>
                </a:lnTo>
                <a:cubicBezTo>
                  <a:pt x="1163750" y="4557250"/>
                  <a:pt x="1210627" y="4564221"/>
                  <a:pt x="1257300" y="4572000"/>
                </a:cubicBezTo>
                <a:cubicBezTo>
                  <a:pt x="1312333" y="4567767"/>
                  <a:pt x="1368276" y="4570125"/>
                  <a:pt x="1422400" y="4559300"/>
                </a:cubicBezTo>
                <a:cubicBezTo>
                  <a:pt x="1454014" y="4552977"/>
                  <a:pt x="1482027" y="4534710"/>
                  <a:pt x="1511300" y="4521200"/>
                </a:cubicBezTo>
                <a:cubicBezTo>
                  <a:pt x="1579452" y="4489745"/>
                  <a:pt x="1624973" y="4463688"/>
                  <a:pt x="1689100" y="4419600"/>
                </a:cubicBezTo>
                <a:cubicBezTo>
                  <a:pt x="1723984" y="4395617"/>
                  <a:pt x="1756115" y="4367813"/>
                  <a:pt x="1790700" y="4343400"/>
                </a:cubicBezTo>
                <a:cubicBezTo>
                  <a:pt x="1828109" y="4316993"/>
                  <a:pt x="1868626" y="4295015"/>
                  <a:pt x="1905000" y="4267200"/>
                </a:cubicBezTo>
                <a:cubicBezTo>
                  <a:pt x="1961250" y="4224185"/>
                  <a:pt x="2029393" y="4163161"/>
                  <a:pt x="2070100" y="4102100"/>
                </a:cubicBezTo>
                <a:cubicBezTo>
                  <a:pt x="2094277" y="4065835"/>
                  <a:pt x="2112433" y="4025900"/>
                  <a:pt x="2133600" y="3987800"/>
                </a:cubicBezTo>
                <a:cubicBezTo>
                  <a:pt x="2142330" y="3944152"/>
                  <a:pt x="2147043" y="3915349"/>
                  <a:pt x="2159000" y="3873500"/>
                </a:cubicBezTo>
                <a:cubicBezTo>
                  <a:pt x="2162678" y="3860628"/>
                  <a:pt x="2167467" y="3848100"/>
                  <a:pt x="2171700" y="3835400"/>
                </a:cubicBezTo>
                <a:cubicBezTo>
                  <a:pt x="2156174" y="3563692"/>
                  <a:pt x="2210471" y="3485151"/>
                  <a:pt x="2108200" y="3314700"/>
                </a:cubicBezTo>
                <a:cubicBezTo>
                  <a:pt x="2085481" y="3276835"/>
                  <a:pt x="2070016" y="3257508"/>
                  <a:pt x="2032000" y="3238500"/>
                </a:cubicBezTo>
                <a:cubicBezTo>
                  <a:pt x="1984176" y="3214588"/>
                  <a:pt x="1966206" y="3212527"/>
                  <a:pt x="1917700" y="3200400"/>
                </a:cubicBezTo>
                <a:cubicBezTo>
                  <a:pt x="1799167" y="3208867"/>
                  <a:pt x="1680121" y="3211915"/>
                  <a:pt x="1562100" y="3225800"/>
                </a:cubicBezTo>
                <a:cubicBezTo>
                  <a:pt x="1535509" y="3228928"/>
                  <a:pt x="1485900" y="3251200"/>
                  <a:pt x="1485900" y="3251200"/>
                </a:cubicBezTo>
                <a:cubicBezTo>
                  <a:pt x="1430160" y="3306940"/>
                  <a:pt x="1415734" y="3327526"/>
                  <a:pt x="1320800" y="3365500"/>
                </a:cubicBezTo>
                <a:cubicBezTo>
                  <a:pt x="1275911" y="3383455"/>
                  <a:pt x="1254319" y="3387034"/>
                  <a:pt x="1219200" y="3416300"/>
                </a:cubicBezTo>
                <a:cubicBezTo>
                  <a:pt x="1184840" y="3444934"/>
                  <a:pt x="1157748" y="3483590"/>
                  <a:pt x="1130300" y="3517900"/>
                </a:cubicBezTo>
                <a:cubicBezTo>
                  <a:pt x="1126067" y="3594100"/>
                  <a:pt x="1124836" y="3670526"/>
                  <a:pt x="1117600" y="3746500"/>
                </a:cubicBezTo>
                <a:cubicBezTo>
                  <a:pt x="1116331" y="3759827"/>
                  <a:pt x="1112681" y="3773707"/>
                  <a:pt x="1104900" y="3784600"/>
                </a:cubicBezTo>
                <a:cubicBezTo>
                  <a:pt x="1061547" y="3845294"/>
                  <a:pt x="1030374" y="3830379"/>
                  <a:pt x="1003300" y="3911600"/>
                </a:cubicBezTo>
                <a:cubicBezTo>
                  <a:pt x="987490" y="3959031"/>
                  <a:pt x="992967" y="3955986"/>
                  <a:pt x="952500" y="4000500"/>
                </a:cubicBezTo>
                <a:cubicBezTo>
                  <a:pt x="924310" y="4031509"/>
                  <a:pt x="886846" y="4054531"/>
                  <a:pt x="863600" y="4089400"/>
                </a:cubicBezTo>
                <a:lnTo>
                  <a:pt x="812800" y="4165600"/>
                </a:lnTo>
                <a:cubicBezTo>
                  <a:pt x="804333" y="4178300"/>
                  <a:pt x="800100" y="4195233"/>
                  <a:pt x="787400" y="4203700"/>
                </a:cubicBezTo>
                <a:cubicBezTo>
                  <a:pt x="762000" y="4220633"/>
                  <a:pt x="734827" y="4235169"/>
                  <a:pt x="711200" y="4254500"/>
                </a:cubicBezTo>
                <a:cubicBezTo>
                  <a:pt x="688032" y="4273455"/>
                  <a:pt x="667725" y="4295750"/>
                  <a:pt x="647700" y="4318000"/>
                </a:cubicBezTo>
                <a:cubicBezTo>
                  <a:pt x="629567" y="4338148"/>
                  <a:pt x="617593" y="4363991"/>
                  <a:pt x="596900" y="4381500"/>
                </a:cubicBezTo>
                <a:cubicBezTo>
                  <a:pt x="584493" y="4391998"/>
                  <a:pt x="474916" y="4468728"/>
                  <a:pt x="431800" y="4483100"/>
                </a:cubicBezTo>
                <a:cubicBezTo>
                  <a:pt x="411322" y="4489926"/>
                  <a:pt x="389467" y="4491567"/>
                  <a:pt x="368300" y="4495800"/>
                </a:cubicBezTo>
                <a:cubicBezTo>
                  <a:pt x="338667" y="4491567"/>
                  <a:pt x="308753" y="4488971"/>
                  <a:pt x="279400" y="4483100"/>
                </a:cubicBezTo>
                <a:cubicBezTo>
                  <a:pt x="266273" y="4480475"/>
                  <a:pt x="254687" y="4470400"/>
                  <a:pt x="241300" y="4470400"/>
                </a:cubicBezTo>
                <a:cubicBezTo>
                  <a:pt x="227913" y="4470400"/>
                  <a:pt x="216072" y="4479422"/>
                  <a:pt x="203200" y="4483100"/>
                </a:cubicBezTo>
                <a:cubicBezTo>
                  <a:pt x="186417" y="4487895"/>
                  <a:pt x="169333" y="4491567"/>
                  <a:pt x="152400" y="4495800"/>
                </a:cubicBezTo>
                <a:cubicBezTo>
                  <a:pt x="127000" y="4512733"/>
                  <a:pt x="105160" y="4536947"/>
                  <a:pt x="76200" y="4546600"/>
                </a:cubicBezTo>
                <a:cubicBezTo>
                  <a:pt x="63500" y="4550833"/>
                  <a:pt x="50074" y="4553313"/>
                  <a:pt x="38100" y="4559300"/>
                </a:cubicBezTo>
                <a:cubicBezTo>
                  <a:pt x="24448" y="4566126"/>
                  <a:pt x="0" y="4584700"/>
                  <a:pt x="0" y="4584700"/>
                </a:cubicBezTo>
              </a:path>
            </a:pathLst>
          </a:custGeom>
          <a:noFill/>
          <a:ln w="38160">
            <a:solidFill>
              <a:srgbClr val="9c007f"/>
            </a:solidFill>
            <a:round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Freeform 17"/>
          <p:cNvSpPr/>
          <p:nvPr/>
        </p:nvSpPr>
        <p:spPr>
          <a:xfrm>
            <a:off x="1981080" y="2298600"/>
            <a:ext cx="3924360" cy="3111480"/>
          </a:xfrm>
          <a:custGeom>
            <a:avLst/>
            <a:gdLst/>
            <a:ahLst/>
            <a:rect l="l" t="t" r="r" b="b"/>
            <a:pathLst>
              <a:path w="3924300" h="3111500">
                <a:moveTo>
                  <a:pt x="0" y="2908300"/>
                </a:moveTo>
                <a:cubicBezTo>
                  <a:pt x="122508" y="2981805"/>
                  <a:pt x="19483" y="2933004"/>
                  <a:pt x="241300" y="2959100"/>
                </a:cubicBezTo>
                <a:cubicBezTo>
                  <a:pt x="283044" y="2964011"/>
                  <a:pt x="280617" y="2978758"/>
                  <a:pt x="317500" y="2997200"/>
                </a:cubicBezTo>
                <a:cubicBezTo>
                  <a:pt x="329474" y="3003187"/>
                  <a:pt x="342900" y="3005667"/>
                  <a:pt x="355600" y="3009900"/>
                </a:cubicBezTo>
                <a:cubicBezTo>
                  <a:pt x="486833" y="3005667"/>
                  <a:pt x="618225" y="2989490"/>
                  <a:pt x="749300" y="2997200"/>
                </a:cubicBezTo>
                <a:cubicBezTo>
                  <a:pt x="767230" y="2998255"/>
                  <a:pt x="772456" y="3025337"/>
                  <a:pt x="787400" y="3035300"/>
                </a:cubicBezTo>
                <a:cubicBezTo>
                  <a:pt x="798539" y="3042726"/>
                  <a:pt x="812269" y="3045964"/>
                  <a:pt x="825500" y="3048000"/>
                </a:cubicBezTo>
                <a:cubicBezTo>
                  <a:pt x="867550" y="3054469"/>
                  <a:pt x="910167" y="3056467"/>
                  <a:pt x="952500" y="3060700"/>
                </a:cubicBezTo>
                <a:cubicBezTo>
                  <a:pt x="969433" y="3069167"/>
                  <a:pt x="985573" y="3079453"/>
                  <a:pt x="1003300" y="3086100"/>
                </a:cubicBezTo>
                <a:cubicBezTo>
                  <a:pt x="1019643" y="3092229"/>
                  <a:pt x="1037317" y="3094005"/>
                  <a:pt x="1054100" y="3098800"/>
                </a:cubicBezTo>
                <a:cubicBezTo>
                  <a:pt x="1066972" y="3102478"/>
                  <a:pt x="1079500" y="3107267"/>
                  <a:pt x="1092200" y="3111500"/>
                </a:cubicBezTo>
                <a:cubicBezTo>
                  <a:pt x="1159933" y="3107267"/>
                  <a:pt x="1228285" y="3108867"/>
                  <a:pt x="1295400" y="3098800"/>
                </a:cubicBezTo>
                <a:cubicBezTo>
                  <a:pt x="1314123" y="3095992"/>
                  <a:pt x="1328473" y="3080047"/>
                  <a:pt x="1346200" y="3073400"/>
                </a:cubicBezTo>
                <a:cubicBezTo>
                  <a:pt x="1362543" y="3067271"/>
                  <a:pt x="1380282" y="3065716"/>
                  <a:pt x="1397000" y="3060700"/>
                </a:cubicBezTo>
                <a:cubicBezTo>
                  <a:pt x="1422645" y="3053007"/>
                  <a:pt x="1447225" y="3041794"/>
                  <a:pt x="1473200" y="3035300"/>
                </a:cubicBezTo>
                <a:cubicBezTo>
                  <a:pt x="1490133" y="3031067"/>
                  <a:pt x="1507657" y="3028729"/>
                  <a:pt x="1524000" y="3022600"/>
                </a:cubicBezTo>
                <a:cubicBezTo>
                  <a:pt x="1541727" y="3015953"/>
                  <a:pt x="1557867" y="3005667"/>
                  <a:pt x="1574800" y="2997200"/>
                </a:cubicBezTo>
                <a:cubicBezTo>
                  <a:pt x="1583267" y="2984500"/>
                  <a:pt x="1587257" y="2967190"/>
                  <a:pt x="1600200" y="2959100"/>
                </a:cubicBezTo>
                <a:cubicBezTo>
                  <a:pt x="1642675" y="2932553"/>
                  <a:pt x="1705921" y="2931373"/>
                  <a:pt x="1752600" y="2921000"/>
                </a:cubicBezTo>
                <a:cubicBezTo>
                  <a:pt x="1765668" y="2918096"/>
                  <a:pt x="1778395" y="2913573"/>
                  <a:pt x="1790700" y="2908300"/>
                </a:cubicBezTo>
                <a:cubicBezTo>
                  <a:pt x="1808101" y="2900842"/>
                  <a:pt x="1825062" y="2892293"/>
                  <a:pt x="1841500" y="2882900"/>
                </a:cubicBezTo>
                <a:cubicBezTo>
                  <a:pt x="1867499" y="2868044"/>
                  <a:pt x="1908594" y="2835755"/>
                  <a:pt x="1930400" y="2819400"/>
                </a:cubicBezTo>
                <a:cubicBezTo>
                  <a:pt x="1940361" y="2799478"/>
                  <a:pt x="1963249" y="2748451"/>
                  <a:pt x="1981200" y="2730500"/>
                </a:cubicBezTo>
                <a:cubicBezTo>
                  <a:pt x="1991993" y="2719707"/>
                  <a:pt x="2008507" y="2715893"/>
                  <a:pt x="2019300" y="2705100"/>
                </a:cubicBezTo>
                <a:cubicBezTo>
                  <a:pt x="2034267" y="2690133"/>
                  <a:pt x="2042433" y="2669267"/>
                  <a:pt x="2057400" y="2654300"/>
                </a:cubicBezTo>
                <a:cubicBezTo>
                  <a:pt x="2068193" y="2643507"/>
                  <a:pt x="2083774" y="2638671"/>
                  <a:pt x="2095500" y="2628900"/>
                </a:cubicBezTo>
                <a:cubicBezTo>
                  <a:pt x="2156214" y="2578305"/>
                  <a:pt x="2113591" y="2607191"/>
                  <a:pt x="2159000" y="2552700"/>
                </a:cubicBezTo>
                <a:cubicBezTo>
                  <a:pt x="2170498" y="2538902"/>
                  <a:pt x="2186661" y="2529215"/>
                  <a:pt x="2197100" y="2514600"/>
                </a:cubicBezTo>
                <a:cubicBezTo>
                  <a:pt x="2208104" y="2499194"/>
                  <a:pt x="2215853" y="2481527"/>
                  <a:pt x="2222500" y="2463800"/>
                </a:cubicBezTo>
                <a:cubicBezTo>
                  <a:pt x="2254723" y="2377871"/>
                  <a:pt x="2217197" y="2446540"/>
                  <a:pt x="2247900" y="2374900"/>
                </a:cubicBezTo>
                <a:cubicBezTo>
                  <a:pt x="2255358" y="2357499"/>
                  <a:pt x="2265842" y="2341501"/>
                  <a:pt x="2273300" y="2324100"/>
                </a:cubicBezTo>
                <a:cubicBezTo>
                  <a:pt x="2278573" y="2311795"/>
                  <a:pt x="2282322" y="2298872"/>
                  <a:pt x="2286000" y="2286000"/>
                </a:cubicBezTo>
                <a:cubicBezTo>
                  <a:pt x="2297957" y="2244151"/>
                  <a:pt x="2302670" y="2215348"/>
                  <a:pt x="2311400" y="2171700"/>
                </a:cubicBezTo>
                <a:cubicBezTo>
                  <a:pt x="2315633" y="2061633"/>
                  <a:pt x="2313490" y="1951136"/>
                  <a:pt x="2324100" y="1841500"/>
                </a:cubicBezTo>
                <a:cubicBezTo>
                  <a:pt x="2326296" y="1818809"/>
                  <a:pt x="2342291" y="1799627"/>
                  <a:pt x="2349500" y="1778000"/>
                </a:cubicBezTo>
                <a:cubicBezTo>
                  <a:pt x="2355020" y="1761441"/>
                  <a:pt x="2357967" y="1744133"/>
                  <a:pt x="2362200" y="1727200"/>
                </a:cubicBezTo>
                <a:cubicBezTo>
                  <a:pt x="2353733" y="1714500"/>
                  <a:pt x="2348719" y="1698635"/>
                  <a:pt x="2336800" y="1689100"/>
                </a:cubicBezTo>
                <a:cubicBezTo>
                  <a:pt x="2326347" y="1680737"/>
                  <a:pt x="2310674" y="1682387"/>
                  <a:pt x="2298700" y="1676400"/>
                </a:cubicBezTo>
                <a:cubicBezTo>
                  <a:pt x="2285048" y="1669574"/>
                  <a:pt x="2273300" y="1659467"/>
                  <a:pt x="2260600" y="1651000"/>
                </a:cubicBezTo>
                <a:cubicBezTo>
                  <a:pt x="2252133" y="1638300"/>
                  <a:pt x="2242026" y="1626552"/>
                  <a:pt x="2235200" y="1612900"/>
                </a:cubicBezTo>
                <a:cubicBezTo>
                  <a:pt x="2193456" y="1529411"/>
                  <a:pt x="2234750" y="1363536"/>
                  <a:pt x="2247900" y="1320800"/>
                </a:cubicBezTo>
                <a:cubicBezTo>
                  <a:pt x="2278380" y="1221740"/>
                  <a:pt x="2327910" y="1275080"/>
                  <a:pt x="2362200" y="1206500"/>
                </a:cubicBezTo>
                <a:cubicBezTo>
                  <a:pt x="2389154" y="1152592"/>
                  <a:pt x="2388772" y="1162539"/>
                  <a:pt x="2400300" y="1104900"/>
                </a:cubicBezTo>
                <a:cubicBezTo>
                  <a:pt x="2404366" y="1084572"/>
                  <a:pt x="2410490" y="1017218"/>
                  <a:pt x="2425700" y="990600"/>
                </a:cubicBezTo>
                <a:cubicBezTo>
                  <a:pt x="2436202" y="972222"/>
                  <a:pt x="2451662" y="957140"/>
                  <a:pt x="2463800" y="939800"/>
                </a:cubicBezTo>
                <a:cubicBezTo>
                  <a:pt x="2481306" y="914791"/>
                  <a:pt x="2493014" y="885186"/>
                  <a:pt x="2514600" y="863600"/>
                </a:cubicBezTo>
                <a:cubicBezTo>
                  <a:pt x="2527300" y="850900"/>
                  <a:pt x="2541202" y="839298"/>
                  <a:pt x="2552700" y="825500"/>
                </a:cubicBezTo>
                <a:cubicBezTo>
                  <a:pt x="2581985" y="790358"/>
                  <a:pt x="2574459" y="777127"/>
                  <a:pt x="2616200" y="749300"/>
                </a:cubicBezTo>
                <a:cubicBezTo>
                  <a:pt x="2627339" y="741874"/>
                  <a:pt x="2641600" y="740833"/>
                  <a:pt x="2654300" y="736600"/>
                </a:cubicBezTo>
                <a:cubicBezTo>
                  <a:pt x="2667000" y="723900"/>
                  <a:pt x="2678602" y="709998"/>
                  <a:pt x="2692400" y="698500"/>
                </a:cubicBezTo>
                <a:cubicBezTo>
                  <a:pt x="2704126" y="688729"/>
                  <a:pt x="2716848" y="679926"/>
                  <a:pt x="2730500" y="673100"/>
                </a:cubicBezTo>
                <a:cubicBezTo>
                  <a:pt x="2761764" y="657468"/>
                  <a:pt x="2815534" y="652578"/>
                  <a:pt x="2844800" y="647700"/>
                </a:cubicBezTo>
                <a:cubicBezTo>
                  <a:pt x="2891440" y="624380"/>
                  <a:pt x="2894208" y="625621"/>
                  <a:pt x="2933700" y="596900"/>
                </a:cubicBezTo>
                <a:cubicBezTo>
                  <a:pt x="2967936" y="572001"/>
                  <a:pt x="2995139" y="534087"/>
                  <a:pt x="3035300" y="520700"/>
                </a:cubicBezTo>
                <a:cubicBezTo>
                  <a:pt x="3126651" y="490250"/>
                  <a:pt x="3012572" y="527194"/>
                  <a:pt x="3124200" y="495300"/>
                </a:cubicBezTo>
                <a:cubicBezTo>
                  <a:pt x="3137072" y="491622"/>
                  <a:pt x="3149313" y="485847"/>
                  <a:pt x="3162300" y="482600"/>
                </a:cubicBezTo>
                <a:cubicBezTo>
                  <a:pt x="3183241" y="477365"/>
                  <a:pt x="3204859" y="475135"/>
                  <a:pt x="3225800" y="469900"/>
                </a:cubicBezTo>
                <a:cubicBezTo>
                  <a:pt x="3311423" y="448494"/>
                  <a:pt x="3215087" y="469049"/>
                  <a:pt x="3302000" y="431800"/>
                </a:cubicBezTo>
                <a:cubicBezTo>
                  <a:pt x="3318043" y="424924"/>
                  <a:pt x="3335867" y="423333"/>
                  <a:pt x="3352800" y="419100"/>
                </a:cubicBezTo>
                <a:lnTo>
                  <a:pt x="3467100" y="342900"/>
                </a:lnTo>
                <a:cubicBezTo>
                  <a:pt x="3479800" y="334433"/>
                  <a:pt x="3493281" y="327035"/>
                  <a:pt x="3505200" y="317500"/>
                </a:cubicBezTo>
                <a:cubicBezTo>
                  <a:pt x="3526367" y="300567"/>
                  <a:pt x="3548440" y="284709"/>
                  <a:pt x="3568700" y="266700"/>
                </a:cubicBezTo>
                <a:cubicBezTo>
                  <a:pt x="3660129" y="185429"/>
                  <a:pt x="3577660" y="243972"/>
                  <a:pt x="3670300" y="177800"/>
                </a:cubicBezTo>
                <a:cubicBezTo>
                  <a:pt x="3755225" y="117139"/>
                  <a:pt x="3662621" y="181640"/>
                  <a:pt x="3746500" y="139700"/>
                </a:cubicBezTo>
                <a:cubicBezTo>
                  <a:pt x="3760152" y="132874"/>
                  <a:pt x="3771900" y="122767"/>
                  <a:pt x="3784600" y="114300"/>
                </a:cubicBezTo>
                <a:cubicBezTo>
                  <a:pt x="3834673" y="39190"/>
                  <a:pt x="3778770" y="109393"/>
                  <a:pt x="3860800" y="50800"/>
                </a:cubicBezTo>
                <a:cubicBezTo>
                  <a:pt x="3965318" y="-23856"/>
                  <a:pt x="3851358" y="36471"/>
                  <a:pt x="3924300" y="0"/>
                </a:cubicBezTo>
              </a:path>
            </a:pathLst>
          </a:custGeom>
          <a:noFill/>
          <a:ln w="38160">
            <a:solidFill>
              <a:srgbClr val="005bd3"/>
            </a:solidFill>
            <a:round/>
          </a:ln>
          <a:effectLst>
            <a:outerShdw dist="38168" dir="1469311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18"/>
          <p:cNvSpPr/>
          <p:nvPr/>
        </p:nvSpPr>
        <p:spPr>
          <a:xfrm>
            <a:off x="5905440" y="4114800"/>
            <a:ext cx="41515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--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Fah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005f"/>
                </a:solidFill>
                <a:latin typeface="Arial"/>
              </a:rPr>
              <a:t>___  2 Fah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c71ff"/>
                </a:solidFill>
                <a:latin typeface="Arial"/>
              </a:rPr>
              <a:t>____ 3 Fahrt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Es ist Jungenherberg Bliz Stranderomenade 35 18609 Ostseebad Binz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ist $56.20 fur swei nachte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hat tanzen, wassersport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,und der stran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Es war 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  <a:ea typeface="Arial"/>
              </a:rPr>
              <a:t>gegenüber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Arial"/>
              </a:rPr>
              <a:t> Mecklenburg- Vorpomm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2"/>
          <a:stretch/>
        </p:blipFill>
        <p:spPr>
          <a:xfrm>
            <a:off x="5562720" y="-68400"/>
            <a:ext cx="3790800" cy="25448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e hat ein schloss sichten. (Freiburg Cathedral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nach wir gehen zu das Spa. (Caracalla therme Baths,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nach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Frühstück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ann wir wandern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durch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ie markt platz.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5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rau Gertrud Rothenbächer righini herr philippe righini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ie name ist Breisach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ir übernachten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bei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i schwatz wald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ist </a:t>
            </a:r>
            <a:r>
              <a:rPr b="0" lang="en-US" sz="3000" spc="-1" strike="noStrike">
                <a:solidFill>
                  <a:srgbClr val="0070c0"/>
                </a:solidFill>
                <a:latin typeface="Century Gothic"/>
              </a:rPr>
              <a:t>in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Württember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s ist nebe die wasser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ald, und es hat essen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5638680" y="7920"/>
            <a:ext cx="3505320" cy="2397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"/>
          <p:cNvPicPr/>
          <p:nvPr/>
        </p:nvPicPr>
        <p:blipFill>
          <a:blip r:embed="rId3"/>
          <a:stretch/>
        </p:blipFill>
        <p:spPr>
          <a:xfrm>
            <a:off x="5181480" y="4572000"/>
            <a:ext cx="3705480" cy="2487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eihnachtmarket. ( Einen Markt</a:t>
            </a:r>
            <a:r>
              <a:rPr b="0" lang="en-US" sz="2800" spc="-1" strike="noStrike">
                <a:solidFill>
                  <a:srgbClr val="0070c0"/>
                </a:solidFill>
                <a:latin typeface="Century Gothic"/>
              </a:rPr>
              <a:t> aus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m“16” Jahrhundert 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tate Art Gallery (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das Art Gallery ist wirklich cool und es hat Margraves </a:t>
            </a:r>
            <a:r>
              <a:rPr b="0" lang="de-DE" sz="2800" spc="-1" strike="noStrike">
                <a:solidFill>
                  <a:srgbClr val="0070c0"/>
                </a:solidFill>
                <a:latin typeface="Century Gothic"/>
              </a:rPr>
              <a:t>von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 Baden </a:t>
            </a:r>
            <a:r>
              <a:rPr b="0" lang="de-DE" sz="2800" spc="-1" strike="noStrike">
                <a:solidFill>
                  <a:srgbClr val="0070c0"/>
                </a:solidFill>
                <a:latin typeface="Century Gothic"/>
              </a:rPr>
              <a:t>aus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 dem 18 Jahrhundert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City Garden und Zoo( das ist City garden und Zoo. Im den Zoo es hat elefanten.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Schlosspark (das Schlosspark ist sehr </a:t>
            </a:r>
            <a:r>
              <a:rPr b="0" lang="de-DE" sz="2800" spc="-1" strike="noStrike">
                <a:solidFill>
                  <a:srgbClr val="0070c0"/>
                </a:solidFill>
                <a:latin typeface="Century Gothic"/>
              </a:rPr>
              <a:t>neben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 die martkt platz.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entury Gothic"/>
              </a:rPr>
              <a:t>garten ( das garten hat der brunnen und es isr schöne.)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2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mount $7200- 1882 (fleugzeug)-544 (Bahn)- 56.20 ( 2 nachten)- 1000 (atraktionen und essen)- 88.14 (3 nachten)- 1000 (Atraktionen und essen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otal spent 4570.34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mount left 2629.6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05:57Z</dcterms:created>
  <dc:creator>CUSD220</dc:creator>
  <dc:description/>
  <dc:language>en-US</dc:language>
  <cp:lastModifiedBy>Kurt</cp:lastModifiedBy>
  <dcterms:modified xsi:type="dcterms:W3CDTF">2012-01-09T02:59:28Z</dcterms:modified>
  <cp:revision>17</cp:revision>
  <dc:subject/>
  <dc:title>Meine Ferien</dc:title>
</cp:coreProperties>
</file>